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5DA-A299-453A-B0A8-D530627D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513-2588-43F4-A962-5BD99C23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F4C-8B1A-4734-9155-7728CCB8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57B-EDD5-4C7D-80AA-C92E1A8E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62A06-D33D-4487-AA11-282D1D26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27FB-974C-4442-A1EB-6076484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B5CCC-F29D-42E7-AB49-05561E93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9C5D3-112E-45AB-BC70-4C3478C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3271-4DCC-46DD-8C7B-7FA83F16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D7D3-7F14-439E-8874-F375B02F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5AEA0-D535-4691-B90A-6DEB0D0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EDF-EF41-4FA8-A0BC-C61DBAD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6692-A307-4BF2-A9F2-2A1D6B5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C5839-93C4-4E84-A64A-683AC2C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806F-714D-4B83-943F-3138E2C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9186-E79A-463A-9EEA-06F9A215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91224-EF00-4D89-A381-A811768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08C9-2579-4598-A7E9-E61114E3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FF7A-103D-4176-8C6E-62D6E71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9A31-CCD9-47C8-9795-B7303BD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760B-3802-4F59-B98F-181E548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9B3F-A7AE-4172-B0AA-E93F4040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7A6-6ECD-4B91-91F0-FEB57169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B3CB-9947-41DF-9021-C7D0070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90AF-8B98-408B-A6C7-4FDA334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DF33-34DC-4A28-8809-B8532D93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B54C-BE85-4A2E-BD91-E13274B8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BDBD-D365-4BE6-BFBA-07C11BC8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EA29-06F8-4BCF-9596-81AA77E7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C550-42D1-4113-BFB8-9464F34B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643B5-DA36-4669-A65B-6AB60D7D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9BA59-B4BD-4172-A041-E765FB2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E6CC9-44D7-4CC0-BA4D-512753A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2C4-46DE-498D-97CF-C80C7015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1F133-2D75-46C9-820A-51CD942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13507-0E3E-4642-9390-B0622DC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EEA25-2718-4CC9-B072-3331280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18C40-B51F-4BA5-A9CE-DEA8801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E81D7-48DA-4FF7-900E-2B6A3B5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23F76-4019-4201-AE85-1F8C843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2F37B-D968-40F0-B8C2-D387A0C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1CFF6-FA68-41BE-A998-F012409B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272F5-AD21-437B-9A6D-E95C2EE0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43575-8B58-4F0F-B08E-DA0A9CD8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30E-97DC-4CEB-A063-D83E771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F9556-1636-4969-8603-51577235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8D2F5-80D6-47F9-8B9C-225445C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2D518-FE33-41AD-BACD-247495B6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5D2B5-ED0B-4482-9AE2-8653E582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33777-6D94-4A2A-A6E8-090C194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98B92-F593-4186-AB5F-F6C4A48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A69DA-2BBA-4F70-96EC-16CE50E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1C144-9E4B-4881-B76B-ADB702D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E2D57-8C74-46B5-BA6F-3F09153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A95A4-E231-44E6-ABE6-EA7285C7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1F1-A567-413D-BC5A-3D46684E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85CAA-32AC-4A72-A6E0-323D8EBE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DD39D-1FD7-445C-B395-E43CA6AB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5AA30-498B-468A-994D-6434E20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CF5A7-CB91-4EFE-BF85-CE3D442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39200-F445-4713-A500-FB508B9B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B54B9-59BC-4201-9862-536E66FF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53F9B-71F8-4F84-8A00-A675521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D7BE8-4FF0-4B90-90B1-E377018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BF5E9-5291-4898-8E5D-AB06E16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C29F9-FB1D-4244-A3E4-AF4E42F3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B71-9B92-4B09-97F1-7AC2631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467AD-11AC-4CB1-8546-AC20440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41E51-E399-47C4-BFC3-FBBC0182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5BDD9-6B52-4F0D-BCD3-49E8DB3A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C256-EFED-4828-9715-00C8DA0E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F053-3AE3-4147-8C89-F6EA62B5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6B72-9DBA-419F-BB5B-B1A2BAC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1B27C-A039-4537-9450-5C94F93F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C76D-5034-4EE5-BAC7-591FF938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57B3B-5AE0-4608-B9BF-2DD6F9D7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3F65-E24D-4EE9-AB9D-B48EEA8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F8A-90F1-4DB6-9398-30EA9EA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C7A89-65C6-4397-8062-2B027C6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4DD80-99E8-4F30-A3FE-C844B96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AC0C9-BE03-460D-81AE-CAF7C74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9E392-9CC3-4255-976C-A3FDDAD2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B732B-1550-4118-A089-A1739FE6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7CF-DDF0-4ED4-A33F-426DF88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0EE0-D7D5-4C9F-81D7-C7278F10C5B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079-C939-479C-A274-324CCD0663E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582E-089E-4C54-9983-EBDFA64B8CE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2173-CC9F-4935-B05C-DBF758BA0F0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1475-F34E-43B0-A9B4-A9ED6D899B1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B4E-6A92-40EF-B22A-6CD4463F87C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08A0-1D49-41A4-A679-AA476D34644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pendent.co.uk/news/world/europe/france-and-germany-to-blame-for-greece-crisis-7218923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 Noah Taylo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Rectangle 2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 wrote this presenta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ebsit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independent.co.uk/news/world/europe/france-and-germany-to-blame-for-greece-crisis-7218923.htm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guardian.co.uk/business/economics-blog/2012/feb/10/european-debt-crisis-germany-against-greec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telegraph.co.uk/finance/financialcrisis/8751180/Germany-pushes-Greece-to-the-brink-in-dangerous-brinkmanship.htm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hoto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www.skyscrapercity.com/showthread.php?t=222007&amp;page=4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ttp://blogs.telegraph.co.uk/finance/files/2011/09/euro_1805998c.jpg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7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8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40831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is applying for a second bailou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proposed bailout is to b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€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130 bill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reek bankruptcy originated due to excessive government spend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has announced new budget cuts to make it more attractive as a candidate for financial ai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of the highest per capita arms Greece spent a excessive portion of their  budget on submarines, tanks, and combat aircraf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as before the major recession hit Greece in 2009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Content Placeholder 5" descr="sub img.jpg"/>
          <p:cNvPicPr/>
          <p:nvPr/>
        </p:nvPicPr>
        <p:blipFill>
          <a:blip r:embed="rId3"/>
          <a:srcRect l="0" t="-36479" r="0" b="-36479"/>
          <a:stretch/>
        </p:blipFill>
        <p:spPr>
          <a:xfrm>
            <a:off x="4648320" y="1143000"/>
            <a:ext cx="405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rmany is reluctant to give aid to Gree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has already given out bailout money to Greece as well as Spain, Ireland, and Ital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ermany wants to maintain political strength and sovereignty while keeping the Euro stro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Picture 5" descr="German-Chancellor-Angela--007"/>
          <p:cNvPicPr/>
          <p:nvPr/>
        </p:nvPicPr>
        <p:blipFill>
          <a:blip r:embed="rId3"/>
          <a:stretch/>
        </p:blipFill>
        <p:spPr>
          <a:xfrm>
            <a:off x="4419720" y="2133720"/>
            <a:ext cx="44956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f  Greece stays in the EU it will keep bringing down the value of the Eur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cause of Greece’s previously bad reputation Germany is hesitant to le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, as all other countries do, does not want to lend money to another country that might default on the lo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ould put Germany into deb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bt is bad for the government as well as the econo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Potential Consequenc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f Germany stays resistant to the Greek bailout, Greece may choose to leave the EU thus adopting its own currenc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is would be a peaceful exit if it was by Greece’s doing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erefore, Germany could say it tried to keep the currency strong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Text Placeholder 8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t taxes in Germany, by cutting taxes in Germany, Germans will spend mor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Some of this spending will be on Greek imports, stimulating the Greek econom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ncentivize spending in the EU rather than investment in bon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he EU is in a recession and more spending would help bring it out of i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155080" cy="12193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id Greece spend its money 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ilitary equipmen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live oi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eta Chees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is loaning money to Greece bad for German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t will put Germany into deb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e Greeks will go on vacation with i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Germany will lose its trade agreement with Japan by doing so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2"/>
          <a:stretch/>
        </p:blipFill>
        <p:spPr>
          <a:xfrm>
            <a:off x="493560" y="152280"/>
            <a:ext cx="8155080" cy="12193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3:02:57Z</dcterms:created>
  <dc:creator>SCSadmin</dc:creator>
  <dc:description/>
  <dc:language>en-US</dc:language>
  <cp:lastModifiedBy>SCSadmin</cp:lastModifiedBy>
  <dcterms:modified xsi:type="dcterms:W3CDTF">2012-03-29T13:00:45Z</dcterms:modified>
  <cp:revision>6</cp:revision>
  <dc:subject/>
  <dc:title>Economic Issues: the Eurozone; Germany and the Greek Bankruptcy</dc:title>
</cp:coreProperties>
</file>